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F457-247B-4F15-9CAB-D43013E57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39BF-E792-432B-8FFA-6B13395C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33A5-2CFA-4D7A-B1E2-19D972DAB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FBCB-358A-486C-BD06-C4CD2F532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584E-4CE6-4945-841F-B929AE28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C8B4-3CEC-4797-A5F7-14ACD1D3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BFCA-B6A0-4305-8B8E-B932C623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B93C-1C25-4C62-8256-EA07250A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83CB-29D7-4DE6-9992-0B1CBABE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BE7E-2B1B-43DD-9872-E3D81661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B582-B2D1-47C9-9B35-117D7A36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9747-9E4A-4C17-9952-F350B628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5B20-CA80-46E9-80F7-E0A09764DE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12:33:58Z</dcterms:created>
  <dc:creator>DGerasimov</dc:creator>
  <dc:description/>
  <dc:language>en-US</dc:language>
  <cp:lastModifiedBy>DGerasimov</cp:lastModifiedBy>
  <dcterms:modified xsi:type="dcterms:W3CDTF">2012-04-23T12:37:53Z</dcterms:modified>
  <cp:revision>1</cp:revision>
  <dc:subject/>
  <dc:title>Слайд 1</dc:title>
</cp:coreProperties>
</file>